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4640263" cy="6616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640400" cy="66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628720" y="-36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30280" y="496440"/>
            <a:ext cx="3581280" cy="248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28632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2628720" y="628632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90CC-DC1D-4EDF-A10B-BACA3324078A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647D-D9E1-41D6-A16D-07F1C87462E0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773E-508C-45FB-8183-71AFAAEBDA33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A810-BAAF-413C-A3BD-E4A139760018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0BE4-FE9B-4390-AA54-E21BC79F4ABB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56C5-5B14-42E3-B591-FF9DEFFF7E84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624D-046B-4F93-9776-8BAC39B3EA7E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08CB-9F58-40EB-9422-77C48837BDAE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9513-BF4E-4592-B5F0-8A1D48C39229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63C0-A672-4BD7-B150-AE6DB1D0705E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D47C-7C49-4F39-8C6B-81AFD623F7E5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2667-A905-457F-8374-9827D6A9DDF9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B156-D0BC-43E9-BA28-B87FF7D375DE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DE15-86CF-4ADF-A704-85B0209808CC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8B3-B43C-4828-9F8A-D2E39A2A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6F5-7400-4C98-A6A2-188CA2E1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1BF-8790-494F-90AC-22E14C33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1BE-CC16-44D2-AFBC-FFD8FEA0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C9B-0F0D-42D8-8A5E-669FBBDB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54E-15D1-4260-989C-F33F67A5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DF9-D0FF-42E2-ABB9-7FD73E04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3D2-AC5D-42B9-8971-F9A6A897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027-EFA4-4305-8203-B01554D7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638-7240-4099-B013-C8A94075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EF9-FC7F-4789-B169-0309ACAA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C24-F7B7-4301-A8EE-FB58309A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D0CF-81C9-47A3-BB09-7F7BF58B432E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142416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2BD2-21FE-4AD0-BAB5-188D496449B8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568520" y="404640"/>
            <a:ext cx="81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цепция развития системы профилактики безнадзорности и правонарушений несовершеннолетних на период до  2020 года, утверждённая распоряжением  Правительства РФ от 22 марта 2017г. № 520-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image.jimcdn.com/app/cms/image/transf/none/path/sd4a027ea19943c7e/image/ib7e3cf0da735a0db/version/1425911849/image.jpg"/>
          <p:cNvPicPr/>
          <p:nvPr/>
        </p:nvPicPr>
        <p:blipFill>
          <a:blip r:embed="rId2"/>
          <a:stretch/>
        </p:blipFill>
        <p:spPr>
          <a:xfrm>
            <a:off x="3103560" y="3444840"/>
            <a:ext cx="50594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94F5-8722-4818-BC01-2EA85E359BFB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1577880" y="979560"/>
            <a:ext cx="783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1373040" y="1841400"/>
            <a:ext cx="8332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БЛАГОПРИЯТНЫХ УСЛОВИЙ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циального развития, раскрытия и усиления положительных личностных ресурсов несовершеннолетних  до возникновения реальной угрозы совершения ими правонарушени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7F16-C6C2-44AC-BE76-54DE7EBDF523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1577880" y="979560"/>
            <a:ext cx="783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1373040" y="1841400"/>
            <a:ext cx="8332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ИЛЕНИЕ РОЛИ ИНСТИТУТА СЕМЬ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пространение семейных ценностей и реализация мероприят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вышению ценности семейного образа жизни, сохранению духовно-нравственных традиций в семейных отношениях и семейном воспитан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ышение эффективности и доступности социальных служ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ятельность которых связана с профилактикой семейного неблагополучия и предоставлением социальной и психологической помощи детям из семей, находящихся в СОП и ТЖС, дезадаптированным детям, в том числе путем развития сети кабинетов бесплатной правовой помощи для детей и подростков, их сем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5EFC-99B8-41FF-A221-5841DED18034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1373040" y="979560"/>
            <a:ext cx="85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1411200" y="1484280"/>
            <a:ext cx="8332920" cy="53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ЕДИНОЙ ВОСПИТАТЕЛЬНОЙ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БРАЗОВАТЕЛЬНОЙ СРЕДЫ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системы взаимодействия с родителя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вопросам профилактики асоциального поведения обучающихс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работка и реализация программ поддержки молодежных и подростковых общественных организаций, волонтерского движения, программ по трудоустройству несовершеннолетних, развитию условий для занятия физической культурой и спортом, пропаганде здорового образа жизни, духовно-нравственному воспитанию подрастающего поколе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 региональных комплексов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р по организации социально значимой деятельности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ходящихся в конфликте с законом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деятельности образовательных организаций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 формированию законопослушного поведения несовершеннолетних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рганизационно-методической поддержки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я служб медиац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зовательных организациях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2285-1485-4ED3-A8DF-B1479BB075E1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1373040" y="979560"/>
            <a:ext cx="85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357200" y="1687680"/>
            <a:ext cx="8332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РЫ ПО РАННЕМУ ВЫЯВЛЕНИЮ И ПРОФИЛАКТИКЕ ДЕВИАНТНОГО ПОВЕДЕНИЯ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омплекса мер по раннему выявлению и профилактике девиантного поведения несовершеннолетних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алкоголизм, табакокурение, потребление наркотических средств, психотропных веществ и их аналогов, а также новых потенциально опасных психоактивных веществ, суицидальное поведение, интернет-зависимость, агрессивное и опасное для жизни и здоровья поведение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филактика правонарушений несовершеннолетних в период кани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влечением организаций, осуществляющих отдых и оздоровление дете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1F6C-5AC7-49A7-9E22-FC3A5B96C51C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1349280" y="13500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1325520" y="785880"/>
            <a:ext cx="852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1397160" y="1336680"/>
            <a:ext cx="85374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 и предупреждение повторных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РАБОТЫ, ОКАЗАНИЕ ПОМОЩИ В ПОЗИТИВНОМ ИЗМЕНЕНИИ СОЦИАЛЬНОЙ МИКРОСРЕДЫ НЕСОВЕРШЕННОЛЕТНИХ  И ИХ САМ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совершенствование деятельности КДНи Зп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реализация комплексных социально-психологических программ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х на реабилитацию и ресоциализацию несовершеннолетних правонарушителей, а также работа по внедрению новых технологий и методов по профилактике правонарушений, в том числе повторных, среди несовершеннолетних осужденных, состоящих на учете в учреждениях уголовно-исполнительной системы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формирование и развитие механизмов восстановительного правосудия, социально-психологическое сопровождение несовершеннолетних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дившихся из мест лишения (ограничения) свободы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учреждений уголовно-исполнительной системы по восстановлению отношений детей, находящихся в местах лишения свободы, с их семьями и ближайшим социальным окружением и </a:t>
            </a: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оказание помощи таким детям в адаптации и ресоциализации по окончании отбывания наказания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обеспечение права на образование осужденного несовершеннолетнег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 путем реализации программ профессионального обучения, образовательных программ среднего профессионального образования, для приобретения ими современных профессий, востребованных на рынке труда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79AE-5DC1-41A9-BEF0-21DD42D22A9E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1349280" y="13500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1325520" y="785880"/>
            <a:ext cx="852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344600" y="1577880"/>
            <a:ext cx="853776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 и предупреждение повторных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воевременное оказание психолого-педагогической, медицинской и социальной помощи обучающим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ытывающим трудности в освоении основных общеобразовательных программ, развитии и социальной адаптации, в том числе разработку эффективных моделей деятельности педагогов-психологов, учителей-логопедов, учителей-дефектологов, социальных педагогов, специалистов психолого-медико-педагогических комиссий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системы межведомственного взаимодейств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образовательными организациями, медицинскими организациями и иными субъектами профилактики правонарушений несовершеннолетних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ормирование информационного простран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еспечивающего развитие нравственных ценностей, законопослушного поведения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D47C-1D90-4621-97FD-4BB5F19C9102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349280" y="13500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3"/>
          <p:cNvSpPr/>
          <p:nvPr/>
        </p:nvSpPr>
        <p:spPr>
          <a:xfrm>
            <a:off x="1325520" y="785880"/>
            <a:ext cx="852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1344600" y="1486080"/>
            <a:ext cx="853776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 и предупреждение повторных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работке программ и планов профилактики безнадзорности и правонарушений несовершеннолетних необходимо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итывать социально-экономические, нравственно-этические и этнические особенности условий, обычаев и традиций в субъектах Российской Федерации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ганизация региональных ресурсных центров, обеспечивающих обобщение и тиражирование эффективного опыта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х технологий профилактической работы, повышение профессионального уровня специалистов органов и учреждений системы профилактики безнадзорности и правонарушений несовершеннолетних, в том числе на базе специальных учреждений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 деятельности центров психолого-педагогической, медицинской и социальной помощ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сихолого-медико-педагогических комиссий, специальных учреждений, в том числе в части развития и внедрения современных реабилитационных технологий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FD2A-3522-4AE7-8705-BD6817C277AC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1461960" y="860400"/>
            <a:ext cx="8332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Информационно-методическое обеспечен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нализ и распространение лучшей практики, технологий и методов профилактик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х в сфере правонарушений несовершеннолетних, включая анализ и обобщение опыта формирования единого межведомственного учета несовершеннолетних и (или) семей, находящихся в социально опасном положении, посредством создания регионального банка данны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свещение родителей (законных представителей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 профилактики безнадзорности и правонарушений несовершеннолетних, устранения факторов, им способствующ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работка и использование методов воздействия на несовершеннолетних, не связанных с применением наказания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роведения научных исследований в области психологии девиантного поведения несовершеннолетни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A78A-0056-4C9D-9C9D-3201EBDEB230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3"/>
          <p:cNvSpPr/>
          <p:nvPr/>
        </p:nvSpPr>
        <p:spPr>
          <a:xfrm>
            <a:off x="1373040" y="976320"/>
            <a:ext cx="8404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Развитие кадрового потенциала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ганизация мероприятий по повышению профессионального уровн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ю новых компетенций руководителями и специалистами органов и учреждений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пространение эффективного опы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образования и дополнительного профессионального образования специалистов, работающих в органах и учреждениях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е деятельности педагогических сообщест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одические объединения, сетевые сообщества, ассоциации, лаборатории и др.) по актуальным вопросам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F9B9-F0E9-4CA6-BEB5-5072FB6BB255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1457280" y="268200"/>
            <a:ext cx="8332920" cy="61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 Ожидаемые результаты реализации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ПОКАЗАТЕЛИ (ИНДИКАТОРЫ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нижение доли несовершеннолетних, совершивших преступлени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й численности несовершеннолетних в возрасте от 14 до 17 лет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нижение доли осужденных несовершеннолетних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х повторные преступления, в общей численности несовершеннолетних, состоящих на учете в уголовно-исполнительных инспекциях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ышение до 100  процентов доли несовершеннолетних, приступивших к обучени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образовательных организациях, в общей численности несовершеннолетних, подлежащих обучению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ТОГ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формированная система дополнительных мер, направленных на выявление и устранение причин и условий, способствующих правонарушениям и антиобщественным действиям несовершеннолетних, развит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24D2-3E71-4170-8CC4-9C106CCC4E08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782720" y="1371600"/>
            <a:ext cx="769788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 Общие положения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 Состояние системы профилактики безнадзорности и правонарушений несовершеннолетних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 Цель и задачи Концепции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 Основные принципы развития системы профилактики безнадзорности и правонарушений несовершеннолетних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 Ожидаемые результаты реализации Концепции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. Реализация Концепции и ее финансовое обеспечение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485240" y="73188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B695-316F-4849-9E38-4C1B360A1C63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1400040" y="268200"/>
            <a:ext cx="8448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. Реализация Концепции и ее финансовое обеспечени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3cb49"/>
                </a:solidFill>
                <a:latin typeface="Times New Roman"/>
                <a:ea typeface="Times New Roman"/>
              </a:rPr>
              <a:t>ОТВЕТСТВЕНН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внутренних дел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исполнения наказа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труда и социальной защиты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агентство по делам молодеж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д поддержки детей, находящихся в трудной жизненной ситу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ов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работка нормативных правовых акто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здание программы постоянного мониторинга реализации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дение работы по совершенствованию региональных и муниципальных  программ по профилактике безнадзорности и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A2A6-CF70-454B-8042-0BFE2B1D4942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1363680" y="268200"/>
            <a:ext cx="853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лан мероприятий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а 2017 - 2020 годы по реализации Концепции развития системы профилактики безнадзорности и правонарушений несовершеннолетних на период до 2020 го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593720" y="1706400"/>
          <a:ext cx="7817040" cy="3687840"/>
        </p:xfrm>
        <a:graphic>
          <a:graphicData uri="http://schemas.openxmlformats.org/drawingml/2006/table">
            <a:tbl>
              <a:tblPr/>
              <a:tblGrid>
                <a:gridCol w="2440080"/>
                <a:gridCol w="1511280"/>
                <a:gridCol w="1657440"/>
                <a:gridCol w="139680"/>
                <a:gridCol w="2068560"/>
              </a:tblGrid>
              <a:tr h="19548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еализаци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лизаци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Совершенствование нормативно-правового регулирования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фере профилактики безнадзорности и 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548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Развитие эффективной модели системы профилактики безнадзорности и 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36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Информационно-методическое обеспечение системы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и безнадзорности и 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00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. Развитие кадрового потенциала системы профилактики безнадзорности 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512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. Управление реализацией Концепци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2" descr="http://shkolnie.ru/pars_docs/refs/101/100100/100100_html_6ca6ed4f.png"/>
          <p:cNvPicPr/>
          <p:nvPr/>
        </p:nvPicPr>
        <p:blipFill>
          <a:blip r:embed="rId2"/>
          <a:stretch/>
        </p:blipFill>
        <p:spPr>
          <a:xfrm>
            <a:off x="2855880" y="5148360"/>
            <a:ext cx="55468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E3E9-FB7F-4FCC-98B6-F816613A791B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1398600" y="536400"/>
            <a:ext cx="83329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 Общие положе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разработана на основан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оссийской Федер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ОН о правах ребен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сновных гарантиях прав ребенка в Российской Федерации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бразовании в Российской Федерации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сновах системы профилактики правонарушений в Российской Федерации»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национальной безопасности Российской Федерации, утвержденная Указом Президента Российской Федерации от 31 декабря 2015 г. N 683 «О Стратегии национальной безопасности Российской Федерации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0008-F136-434C-8631-1D5CE0E40FCE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422360" y="382680"/>
            <a:ext cx="846144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 Состоян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детей и подростков в возрасте до 18 л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014 тыс. человек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и преступлений в 2016 году ста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48,6 тыс. подростков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ми и при их соучастии совершен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53,7 тыс. преступл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2016 года на учете в подразделениях по делам несовершеннолетних органов внутренних дел состоя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142,8 тыс. несовершеннолетних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!!На протяжении ряда лет сохраняется высокая криминальная активность подростков младших возрастных групп!!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го внимания требуют такие антиобщественные действия, как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угивание, травля ребенка со стороны одноклассников, распространение лживой, порочащей ребенка информации в социальных сетях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нередко воспринимаются как норма не только детьми, совершающими противоправные поступки, но и жертвами такого поведения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8AE7-353E-43B8-A3DF-82914A8E77F2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219320" y="65160"/>
            <a:ext cx="853128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 Цель и задачи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ЦЕЛ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успешной социализации (ресоциализации) несовершеннолетних, формирования у них готовности к саморазвитию, самоопределению и ответственному отношению к своей жизни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личества правонарушений, совершенных несовершеннолетними, в том числе повторных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ава каждого ребенка жить и воспитываться в семье, укрепление института семьи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несовершеннолетних, создание условий для формирования достойной жизненной перспективы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еханизмов управления органами и учреждениями системы профилактики безнадзорности и правонарушений несовершеннолетних, включая повышение эффективности межведомственного взаимодействия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имеющихся и внедрение новых технологий и методов профилактической работы с несовершеннолетними, в том числе расширение практики применения технологий восстановительного подхода с учетом эффективной практики субъектов Российской Федерации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профессиональной компетентности специалистов органов и учреждений системы профилактики безнадзорности и правонарушений несовершеннолетних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E322-E40C-4102-8021-20C2E986332A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 Основные принципы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647720" y="998640"/>
            <a:ext cx="7967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ъединение действий различных ведомств и организаций на основе создания единого понятийного, информационного пространства, реализация задач профилактики безнадзорности и правонарушений несовершеннолетних с учетом ресурсов всех субъектов системы и их взаимосвяз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И ПРАКТИЧЕСКАЯ НАПРАВЛЕННОСТЬ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на решение актуальных вопросов и применение эффективных механизмов их  решения, учет региональных особенностей в разработке и реализации программ профилактики безнадзорности и правонарушений несовершеннолетних;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АЯ НАПРАВЛЕННО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доступности профессиональной, качественной, адресной, своевременной и эффективной помощи для несовершеннолетних, учет социальных, психологических, возрастных и физиологических характеристик ребенка в выборе методов диагностики и коррекции негативных отклонений в поведении несовершеннолетних, в выборе средств реабилитационной работы, стратегии жизненного пути несовершеннолетнег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ТИМАЛЬНОСТЬ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распределение сфер ответственности, соответствие затраченных усилий, средств и времени качеству достигнутого результата, мониторинг результатов деятельности по профилактике безнадзорности и правонарушений несовершеннолетних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AA21-740D-41C6-A734-904524FC5309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577880" y="1380960"/>
            <a:ext cx="783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вершенствование нормативно-правового регулирования в сфере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формационно-методическое обеспечен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витие кадрового потенциала системы профилактики безнадзорности и правонарушений несовершеннолетних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29B1-8B9B-4741-9FF0-5002B324D6CC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349280" y="16812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353960" y="806400"/>
            <a:ext cx="8521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Совершенствование нормативно-правового регулирования в сфере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,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туализация региональных (муниципальных) программ и планов мероприят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рганизации профилактики безнадзорности и правонарушений несовершеннолетних с учетом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федеральных государственных образовательных стандартов начального общего, основного общего, среднего общего образования в части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ретизации требований к планируемым результатам воспитания обучающихс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мониторинга системы образования и статистического уче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е эффективной модели системы профилакт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F6A4-2762-40F6-BF18-835BCD48953F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1577880" y="1208160"/>
            <a:ext cx="783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928880" y="2305080"/>
            <a:ext cx="74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рофилактического воздействия предусматривают 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овторных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23:09:16Z</dcterms:created>
  <dc:creator>TP</dc:creator>
  <dc:description/>
  <dc:language>en-US</dc:language>
  <cp:lastModifiedBy>Пользователь</cp:lastModifiedBy>
  <dcterms:modified xsi:type="dcterms:W3CDTF">2017-04-27T12:32:17Z</dcterms:modified>
  <cp:revision>268</cp:revision>
  <dc:subject/>
  <dc:title>Земля, на которой живу</dc:title>
</cp:coreProperties>
</file>