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4640263" cy="6616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640400" cy="66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628720" y="-36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30280" y="496440"/>
            <a:ext cx="3581280" cy="24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2628720" y="6286320"/>
            <a:ext cx="20113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869A-BF09-4D86-A4C3-6306BDCD7835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C5FD-57A4-4FF5-9A4D-DAAD167FB5C0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C672-259F-47DD-B61C-0C2A6C4D495B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5636-7EE5-43CF-910E-4627CDC53506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EBC9-A204-4B19-972B-522FA875B585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4065-2332-4B6C-BC28-8A47E875C40A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DA32-AED1-4C64-9650-68730DD8FE3C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86CB-2118-431A-A037-23960949E57F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5AF1-B081-437B-B59E-98FCFDB62E32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2FF4-5B4C-4E12-A9F9-9E0CFAA444AF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C7FE-C6ED-4991-8C39-AA86B21A854F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8A2C-1DE5-4411-9783-9159CD151C6B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CEBF-9E8B-4A4E-9F19-9CD774765884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530280" y="496800"/>
            <a:ext cx="3581280" cy="24814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3680" y="3142800"/>
            <a:ext cx="371448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2629080" y="6286680"/>
            <a:ext cx="2011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D5DE-E86E-4A28-BF98-94F8252331CF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DF1-2C8E-4706-9BC1-E1569343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0C4-1F1C-4DB5-82A1-264325C7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235-35C4-4C30-AFF9-B4855C42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E17-0EE4-4F5A-AE64-C09EB990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D0C-F3B5-44BF-B7A4-0F7AE797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93D-1D98-4736-9371-1CE6377A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A71-8F60-45A5-AB39-EF4F50E9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393-2B78-4023-BCE3-7C26F4C7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813-BB4D-4F95-B135-91F20024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FA3-BC60-40F6-9EA1-F502DBB0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3D0-E3EC-45E8-96A1-8D56D3F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EFA-677B-49D6-BFE1-977A0AE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7B1C-738B-44C5-B8C0-E1FD637315C4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142416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CA3E-4042-41C6-AFC7-681C7F31B7D1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1568520" y="404640"/>
            <a:ext cx="81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цепция развития системы профилактики безнадзорности и правонарушений несовершеннолетних на период до  2020 года, утверждённая распоряжением  Правительства РФ от 22 марта 2017г. № 520-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image.jimcdn.com/app/cms/image/transf/none/path/sd4a027ea19943c7e/image/ib7e3cf0da735a0db/version/1425911849/image.jpg"/>
          <p:cNvPicPr/>
          <p:nvPr/>
        </p:nvPicPr>
        <p:blipFill>
          <a:blip r:embed="rId2"/>
          <a:stretch/>
        </p:blipFill>
        <p:spPr>
          <a:xfrm>
            <a:off x="3103560" y="3444840"/>
            <a:ext cx="50594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2588-7FFE-4673-A806-724A1AA5E868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1577880" y="979560"/>
            <a:ext cx="783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1373040" y="1841400"/>
            <a:ext cx="8332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БЛАГОПРИЯТНЫХ УСЛОВИЙ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циального развития, раскрытия и усиления положительных личностных ресурсов несовершеннолетних  до возникновения реальной угрозы совершения ими правонарушени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B6CF-603C-4489-8948-3558BA737BB7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1577880" y="979560"/>
            <a:ext cx="783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1373040" y="1841400"/>
            <a:ext cx="8332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ИЛЕНИЕ РОЛИ ИНСТИТУТА СЕМЬ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ространение семейных ценностей и реализация мероприят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вышению ценности семейного образа жизни, сохранению духовно-нравственных традиций в семейных отношениях и семейном воспитан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ышение эффективности и доступности социальных служ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ятельность которых связана с профилактикой семейного неблагополучия и предоставлением социальной и психологической помощи детям из семей, находящихся в СОП и ТЖС, дезадаптированным детям, в том числе путем развития сети кабинетов бесплатной правовой помощи для детей и подростков, их сем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8A00-D479-4EF4-9A61-664E8A24367F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1373040" y="979560"/>
            <a:ext cx="85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411200" y="1484280"/>
            <a:ext cx="8332920" cy="53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ЕДИНОЙ ВОСПИТАТЕЛЬНОЙ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БРАЗОВАТЕЛЬНОЙ СРЕДЫ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системы взаимодействия с родителя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опросам профилактики асоциального поведения обучающихс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работка и реализация программ поддержки молодежных и подростковых общественных организаций, волонтерского движения, программ по трудоустройству несовершеннолетних, развитию условий для занятия физической культурой и спортом, пропаганде здорового образа жизни, духовно-нравственному воспитанию подрастающего покол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 региональных комплексов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р по организации социально значимой деятельности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ходящихся в конфликте с законом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деятельности образовательных организаций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 формированию законопослушного поведения несовершеннолетних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рганизационно-методической поддержки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я служб медиа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тельных организациях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7542-DDD1-421A-8797-D453FAA8452B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1373040" y="979560"/>
            <a:ext cx="85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357200" y="1687680"/>
            <a:ext cx="8332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Ы ПО РАННЕМУ ВЫЯВЛЕНИЮ И ПРОФИЛАКТИКЕ ДЕВИАНТНОГО ПОВЕДЕНИЯ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омплекса мер по раннему выявлению и профилактике девиантного поведения несовершеннолетних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алкоголизм, табакокурение, потребление наркотических средств, психотропных веществ и их аналогов, а также новых потенциально опасных психоактивных веществ, суицидальное поведение, интернет-зависимость, агрессивное и опасное для жизни и здоровья поведение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филактика правонарушений несовершеннолетних в период кани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влечением организаций, осуществляющих отдых и оздоровление дете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2309-AFCB-4FFF-AF3D-AC96886567A7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1349280" y="13500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1325520" y="785880"/>
            <a:ext cx="85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397160" y="1336680"/>
            <a:ext cx="85374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 и предупреждение повторных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РАБОТЫ, ОКАЗАНИЕ ПОМОЩИ В ПОЗИТИВНОМ ИЗМЕНЕНИИ СОЦИАЛЬНОЙ МИКРОСРЕДЫ НЕСОВЕРШЕННОЛЕТНИХ  И ИХ САМ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совершенствование деятельности КДНи Зп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реализация комплексных социально-психологических программ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х на реабилитацию и ресоциализацию несовершеннолетних правонарушителей, а также работа по внедрению новых технологий и методов по профилактике правонарушений, в том числе повторных, среди несовершеннолетних осужденных, состоящих на учете в учреждениях уголовно-исполнительной системы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формирование и развитие механизмов восстановительного правосудия, социально-психологическое сопровождение несовершеннолетних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дившихся из мест лишения (ограничения) свободы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учреждений уголовно-исполнительной системы по восстановлению отношений детей, находящихся в местах лишения свободы, с их семьями и ближайшим социальным окружением и </a:t>
            </a: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оказание помощи таким детям в адаптации и ресоциализации по окончании отбывания наказания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0c2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c248"/>
                </a:solidFill>
                <a:latin typeface="Times New Roman"/>
                <a:ea typeface="Times New Roman"/>
              </a:rPr>
              <a:t>обеспечение права на образование осужденного несовершеннолетне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 путем реализации программ профессионального обучения, образовательных программ среднего профессионального образования, для приобретения ими современных профессий, востребованных на рынке труда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17CD-F10A-4AE9-889B-7A026BF532DF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1349280" y="13500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1325520" y="785880"/>
            <a:ext cx="85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344600" y="1577880"/>
            <a:ext cx="853776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 и предупреждение повторных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воевременное оказание психолого-педагогической, медицинской и социальной помощи обучающим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ытывающим трудности в освоении основных общеобразовательных программ, развитии и социальной адаптации, в том числе разработку эффективных моделей деятельности педагогов-психологов, учителей-логопедов, учителей-дефектологов, социальных педагогов, специалистов психолого-медико-педагогических комиссий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системы межведомственного взаимодейств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образовательными организациями, медицинскими организациями и иными субъектами профилактики правонарушений несовершеннолетних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ормирование информационного пространств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его развитие нравственных ценностей, законопослушного поведения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378C-7A6C-44C7-BE5E-EF8B3D197F92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"/>
          <p:cNvSpPr/>
          <p:nvPr/>
        </p:nvSpPr>
        <p:spPr>
          <a:xfrm>
            <a:off x="1349280" y="135000"/>
            <a:ext cx="853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1325520" y="785880"/>
            <a:ext cx="852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1344600" y="1486080"/>
            <a:ext cx="853776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 и предупреждение повторных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работке программ и планов профилактики безнадзорности и правонарушений несовершеннолетних необходимо </a:t>
            </a: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читывать социально-экономические, нравственно-этические и этнические особенности условий, обычаев и традиций в субъектах Российской Федерации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ганизация региональных ресурсных центров, обеспечивающих обобщение и тиражирование эффективного опыт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х технологий профилактической работы, повышение профессионального уровня специалистов органов и учреждений системы профилактики безнадзорности и правонарушений несовершеннолетних, в том числе на базе специальных учреждений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 деятельности центров психолого-педагогической, медицинской и социаль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сихолого-медико-педагогических комиссий, специальных учреждений, в том числе в части развития и внедрения современных реабилитационных технологий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1AF9-7074-4AC6-B1BF-4E61BD509A2F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"/>
          <p:cNvSpPr/>
          <p:nvPr/>
        </p:nvSpPr>
        <p:spPr>
          <a:xfrm>
            <a:off x="1461960" y="860400"/>
            <a:ext cx="8332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Информационно-методическое обеспечен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нализ и распространение лучшей практики, технологий и методов профилактик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х в сфере правонарушений несовершеннолетних, включая анализ и обобщение опыта формирования единого межведомственного учета несовершеннолетних и (или) семей, находящихся в социально опасном положении, посредством создания регионального банка данны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свещение родителей (законных представителей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профилактики безнадзорности и правонарушений несовершеннолетних, устранения факторов, им способствующ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работка и использование методов воздействия на несовершеннолетних, не связанных с применением наказан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роведения научных исследований в области психологии девиантного поведения несовершеннолетни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D189-9FCD-45F3-A4E5-37930230CED9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3"/>
          <p:cNvSpPr/>
          <p:nvPr/>
        </p:nvSpPr>
        <p:spPr>
          <a:xfrm>
            <a:off x="1373040" y="976320"/>
            <a:ext cx="8404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Развитие кадрового потенциала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ганизация мероприятий по повышению профессионального уровн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ю новых компетенций руководителями и специалистами органов и учреждений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ространение эффективного опы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образования и дополнительного профессионального образования специалистов, работающих в органах и учреждениях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е деятельности педагогических сообщест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одические объединения, сетевые сообщества, ассоциации, лаборатории и др.) по актуальным вопросам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4890-9F30-4184-8237-E78A47460C95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1457280" y="268200"/>
            <a:ext cx="8332920" cy="61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 Ожидаемые результаты реализации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ПОКАЗАТЕЛИ (ИНДИКАТОРЫ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нижение доли несовершеннолетних, совершивших преступле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й численности несовершеннолетних в возрасте от 14 до 17 лет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нижение доли осужденных несовершеннолетних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х повторные преступления, в общей численности несовершеннолетних, состоящих на учете в уголовно-исполнительных инспекциях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ышение до 100  процентов доли несовершеннолетних, приступивших к обучени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ых организациях, в общей численности несовершеннолетних, подлежащих обучению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ОГ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формированная система дополнительных мер, направленных на выявление и устранение причин и условий, способствующих правонарушениям и антиобщественным действиям несовершеннолетних, развит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3D3A-5005-4B66-B450-397C5734167B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782720" y="1371600"/>
            <a:ext cx="769788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 Общие положения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Состояние системы профилактики безнадзорности и правонарушений несовершеннолетних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Цель и задачи Концепции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Основные принципы развития системы профилактики безнадзорности и правонарушений несовершеннолетних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. Ожидаемые результаты реализации Концепции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 Реализация Концепции и ее финансовое обеспечение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85240" y="7318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ADC0-9B53-4212-B827-440A78671CA6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1400040" y="268200"/>
            <a:ext cx="8448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. Реализация Концепции и ее финансовое обеспечени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3cb49"/>
                </a:solidFill>
                <a:latin typeface="Times New Roman"/>
                <a:ea typeface="Times New Roman"/>
              </a:rPr>
              <a:t>ОТВЕТСТВЕН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внутренних дел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исполнения наказа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труда и социальной защиты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агентство по делам молодеж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 поддержки детей, находящихся в трудной жизненной ситу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ов Российской Федера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работка нормативных правовых акто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ние программы постоянного мониторинга реализации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дение работы по совершенствованию региональных и муниципальных  программ по профилактике безнадзорности и правонарушений несовершеннолетних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7476-6A28-4DEF-BC0B-46483EF52687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1363680" y="268200"/>
            <a:ext cx="853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лан мероприятий</a:t>
            </a:r>
            <a:br>
              <a:rPr sz="2000"/>
            </a:b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а 2017 - 2020 годы по реализации Концепции развития системы профилактики безнадзорности и правонарушений несовершеннолетних на период до 2020 го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593720" y="1706400"/>
          <a:ext cx="7817040" cy="3687840"/>
        </p:xfrm>
        <a:graphic>
          <a:graphicData uri="http://schemas.openxmlformats.org/drawingml/2006/table">
            <a:tbl>
              <a:tblPr/>
              <a:tblGrid>
                <a:gridCol w="2440080"/>
                <a:gridCol w="1511280"/>
                <a:gridCol w="1657440"/>
                <a:gridCol w="139680"/>
                <a:gridCol w="2068560"/>
              </a:tblGrid>
              <a:tr h="19548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реализаци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лизаци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Совершенствование нормативно-правового регулирован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фере профилактики безнадзорности и 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548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Развитие эффективной модели системы профилактики безнадзорности и 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36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Информационно-методическое обеспечение системы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и безнадзорности и 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700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. Развитие кадрового потенциала системы профилактики безнадзорности 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нарушений несовершеннолетних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5120">
                <a:tc gridSpan="5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. Управление реализацией Концепции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2" descr="http://shkolnie.ru/pars_docs/refs/101/100100/100100_html_6ca6ed4f.png"/>
          <p:cNvPicPr/>
          <p:nvPr/>
        </p:nvPicPr>
        <p:blipFill>
          <a:blip r:embed="rId2"/>
          <a:stretch/>
        </p:blipFill>
        <p:spPr>
          <a:xfrm>
            <a:off x="2855880" y="5148360"/>
            <a:ext cx="55468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A122-1650-43DD-A36D-3665BCFA3814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357200" y="638172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398600" y="536400"/>
            <a:ext cx="83329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 Общие положе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азработана на основан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ОН о правах ребен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сновных гарантиях прав ребенка в Российской Федерации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бразовании в Российской Федерации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сновах системы профилактики правонарушений в Российской Федерации»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национальной безопасности Российской Федерации, утвержденная Указом Президента Российской Федерации от 31 декабря 2015 г. N 683 «О Стратегии национальной безопасности Российской Федерации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4DF-F64B-442C-86DD-B177D7AB2AE6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422360" y="382680"/>
            <a:ext cx="84614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Состоян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детей и подростков в возрасте до 18 л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014 тыс. человек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и преступлений в 2016 году ста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48,6 тыс. подростков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ми и при их соучастии совершен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53,7 тыс. преступл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2016 года на учете в подразделениях по делам несовершеннолетних органов внутренних дел состоял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142,8 тыс. несовершеннолетних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!!На протяжении ряда лет сохраняется высокая криминальная активность подростков младших возрастных групп!!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го внимания требуют такие антиобщественные действия, как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угивание, травля ребенка со стороны одноклассников, распространение лживой, порочащей ребенка информации в социальных сетях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нередко воспринимаются как норма не только детьми, совершающими противоправные поступки, но и жертвами такого поведения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BC65-2948-4DBB-B9B5-406C76EB611B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219320" y="65160"/>
            <a:ext cx="853128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Цель и задачи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ЕЛ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успешной социализации (ресоциализации) несовершеннолетних, формирования у них готовности к саморазвитию, самоопределению и ответственному отношению к своей жизни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Ч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личества правонарушений, совершенных несовершеннолетними, в том числе повторных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ава каждого ребенка жить и воспитываться в семье, укрепление института семьи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несовершеннолетних, создание условий для формирования достойной жизненной перспективы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еханизмов управления органами и учреждениями системы профилактики безнадзорности и правонарушений несовершеннолетних, включая повышение эффективности межведомственного взаимодействия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имеющихся и внедрение новых технологий и методов профилактической работы с несовершеннолетними, в том числе расширение практики применения технологий восстановительного подхода с учетом эффективной практики субъектов Российской Федерации;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профессиональной компетентности специалистов органов и учреждений системы профилактики безнадзорности и правонарушений несовершеннолетних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E4E3-5F01-447D-8A3A-1A49EDA488E9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Основные принципы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647720" y="998640"/>
            <a:ext cx="7967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ъединение действий различных ведомств и организаций на основе создания единого понятийного, информационного пространства, реализация задач профилактики безнадзорности и правонарушений несовершеннолетних с учетом ресурсов всех субъектов системы и их взаимосвяз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И ПРАКТИЧЕСКАЯ НАПРАВЛЕННОСТЬ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на решение актуальных вопросов и применение эффективных механизмов их  решения, учет региональных особенностей в разработке и реализации программ профилактики безнадзорности и правонарушений несовершеннолетних;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АЯ НАПРАВЛЕНН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доступности профессиональной, качественной, адресной, своевременной и эффективной помощи для несовершеннолетних, учет социальных, психологических, возрастных и физиологических характеристик ребенка в выборе методов диагностики и коррекции негативных отклонений в поведении несовершеннолетних, в выборе средств реабилитационной работы, стратегии жизненного пути несовершеннолетнег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ТИМАЛЬНОСТЬ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распределение сфер ответственности, соответствие затраченных усилий, средств и времени качеству достигнутого результата, мониторинг результатов деятельности по профилактике безнадзорности и правонарушений несовершеннолетних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F29B-BCA2-4EEB-BDE6-8169B4B46E5E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1577880" y="1380960"/>
            <a:ext cx="783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вершенствование нормативно-правового регулирования в сфере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формационно-методическое обеспечение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тие кадрового потенциала системы профилактики безнадзорности и правонарушений несовершеннолетних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98C6-498F-447F-9851-F527299BB846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349280" y="16812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353960" y="806400"/>
            <a:ext cx="8521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овершенствование нормативно-правового регулирования в сфере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,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туализация региональных (муниципальных) программ и планов мероприят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рганизации профилактики безнадзорности и правонарушений несовершеннолетних с учетом Концеп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федеральных государственных образовательных стандартов начального общего, основного общего, среднего общего образования в части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ретизации требований к планируемым результатам воспитания обучающихс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ершенствование мониторинга системы образования и статистического уче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просам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звитие эффективной модели системы профилакт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357200" cy="6750000"/>
          </a:xfrm>
          <a:prstGeom prst="rect">
            <a:avLst/>
          </a:prstGeom>
          <a:solidFill>
            <a:srgbClr val="57d5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5D84-8938-49D6-9A83-6D5DA4033DA5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1357200" y="6518160"/>
            <a:ext cx="85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преля 2017г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065240" y="38160"/>
            <a:ext cx="88408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-совещание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363680" y="26820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 Основные направления развития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Users\MI_Voronkova\AppData\Local\Microsoft\Windows\Temporary Internet Files\Content.IE5\E1KSR3OE\uo-logo.png"/>
          <p:cNvPicPr/>
          <p:nvPr/>
        </p:nvPicPr>
        <p:blipFill>
          <a:blip r:embed="rId1"/>
          <a:stretch/>
        </p:blipFill>
        <p:spPr>
          <a:xfrm>
            <a:off x="0" y="3636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577880" y="1208160"/>
            <a:ext cx="783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Развитие эффективной модели системы профилактики безнадзорности и правонарушений несовершеннолетни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928880" y="2305080"/>
            <a:ext cx="74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рофилактического воздействия предусматривают ранне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предупреждение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овторных правонарушен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23:09:16Z</dcterms:created>
  <dc:creator>TP</dc:creator>
  <dc:description/>
  <dc:language>en-US</dc:language>
  <cp:lastModifiedBy>Пользователь</cp:lastModifiedBy>
  <dcterms:modified xsi:type="dcterms:W3CDTF">2017-04-27T12:32:17Z</dcterms:modified>
  <cp:revision>268</cp:revision>
  <dc:subject/>
  <dc:title>Земля, на которой живу</dc:title>
</cp:coreProperties>
</file>