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4640263" cy="6616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640400" cy="66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62872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30280" y="496440"/>
            <a:ext cx="3581280" cy="24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62872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1F3F-13AA-4850-BD54-EB2C8FA5867E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844E-ECD8-448B-A529-A8C748B4931A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15F9-E1BF-4921-81F6-21040BBD6C82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5FF7-5365-4676-95C7-02C30A6658FA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0706-A924-4D5F-93AD-DA1A52E6EC99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3C98-F781-403B-8B7D-12E0FAB08501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7427-DFB0-4119-BA80-ABB43FEC6964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951B-43FB-4948-9C90-6D66E644B7C8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EBFD-E311-4096-9720-D73D3CAEA941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76AA-A72F-44EE-AA41-730BA6C41966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ABF2-1148-4215-AAF1-215BAC35EC23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9B49-A913-4D04-A43B-9C14AF48BD27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2F62-50C1-448F-93AF-A037E34F2DFA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50DD-FB92-482F-B717-D1127F4852F2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683-CA19-4415-837E-47CB6571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606-271F-4A69-B834-238C1A87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444-6A25-49A9-8E11-51C1D351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4FB-CABB-492E-87EA-546B6DDF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77C-8FA4-4041-AD09-3B3BEF94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263-9350-4010-B329-52DB3EA9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CCF-970D-4135-99A8-AEC95253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949-D11B-4E51-B6A2-599E51B4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DD7-FCED-4201-874C-C401D922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143-1DB5-4652-8395-E4B84A54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252-DA70-4B80-989B-4EF65D4E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562-399E-4C76-990D-AFE3AE85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CB21-A6D0-451C-8811-8B43FAFCAF2A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142416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6A2B-47CC-4579-B23C-C8AEF98994E7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568520" y="404640"/>
            <a:ext cx="81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цепция развития системы профилактики безнадзорности и правонарушений несовершеннолетних на период до  2020 года, утверждённая распоряжением  Правительства РФ от 22 марта 2017г. № 520-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image.jimcdn.com/app/cms/image/transf/none/path/sd4a027ea19943c7e/image/ib7e3cf0da735a0db/version/1425911849/image.jpg"/>
          <p:cNvPicPr/>
          <p:nvPr/>
        </p:nvPicPr>
        <p:blipFill>
          <a:blip r:embed="rId2"/>
          <a:stretch/>
        </p:blipFill>
        <p:spPr>
          <a:xfrm>
            <a:off x="3103560" y="3444840"/>
            <a:ext cx="50594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EFAB-320B-45EA-BD02-7544EF783556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1577880" y="979560"/>
            <a:ext cx="783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1373040" y="1841400"/>
            <a:ext cx="8332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БЛАГОПРИЯТНЫХ УСЛОВИЙ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циального развития, раскрытия и усиления положительных личностных ресурсов несовершеннолетних  до возникновения реальной угрозы совершения ими правонарушени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E018-BC43-40D1-863C-7F1CC4CC0CF6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1577880" y="979560"/>
            <a:ext cx="783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1373040" y="1841400"/>
            <a:ext cx="8332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ИЛЕНИЕ РОЛИ ИНСТИТУТА СЕМЬ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ространение семейных ценностей и реализация мероприят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вышению ценности семейного образа жизни, сохранению духовно-нравственных традиций в семейных отношениях и семейном воспитан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ышение эффективности и доступности социальных служ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ятельность которых связана с профилактикой семейного неблагополучия и предоставлением социальной и психологической помощи детям из семей, находящихся в СОП и ТЖС, дезадаптированным детям, в том числе путем развития сети кабинетов бесплатной правовой помощи для детей и подростков, их сем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81B5-EBBE-4460-9AA7-53C58227B18A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1373040" y="979560"/>
            <a:ext cx="85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411200" y="1484280"/>
            <a:ext cx="833292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ЕДИНОЙ ВОСПИТАТЕЛЬНОЙ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БРАЗОВАТЕЛЬНОЙ СРЕДЫ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системы взаимодействия с родителя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опросам профилактики асоциального поведения обучающихс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работка и реализация программ поддержки молодежных и подростковых общественных организаций, волонтерского движения, программ по трудоустройству несовершеннолетних, развитию условий для занятия физической культурой и спортом, пропаганде здорового образа жизни, духовно-нравственному воспитанию подрастающего покол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 региональных комплексов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р по организации социально значимой деятельности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ходящихся в конфликте с законом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деятельности образовательных организаций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 формированию законопослушного поведения несовершеннолетних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рганизационно-методической поддержки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я служб медиа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тельных организациях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B6FD-F106-43CB-BEFC-2B6BD10A917A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1373040" y="979560"/>
            <a:ext cx="85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357200" y="1687680"/>
            <a:ext cx="8332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Ы ПО РАННЕМУ ВЫЯВЛЕНИЮ И ПРОФИЛАКТИКЕ ДЕВИАНТНОГО ПОВЕДЕНИЯ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омплекса мер по раннему выявлению и профилактике девиантного поведения несовершеннолетних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алкоголизм, табакокурение, потребление наркотических средств, психотропных веществ и их аналогов, а также новых потенциально опасных психоактивных веществ, суицидальное поведение, интернет-зависимость, агрессивное и опасное для жизни и здоровья поведение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филактика правонарушений несовершеннолетних в период кани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влечением организаций, осуществляющих отдых и оздоровление дете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4CD2-DB39-4FB3-AF55-71A5F2DF5181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1349280" y="13500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1325520" y="785880"/>
            <a:ext cx="85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397160" y="1336680"/>
            <a:ext cx="85374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 и предупреждение повторных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РАБОТЫ, ОКАЗАНИЕ ПОМОЩИ В ПОЗИТИВНОМ ИЗМЕНЕНИИ СОЦИАЛЬНОЙ МИКРОСРЕДЫ НЕСОВЕРШЕННОЛЕТНИХ  И ИХ САМ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совершенствование деятельности КДНи Зп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реализация комплексных социально-психологических программ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х на реабилитацию и ресоциализацию несовершеннолетних правонарушителей, а также работа по внедрению новых технологий и методов по профилактике правонарушений, в том числе повторных, среди несовершеннолетних осужденных, состоящих на учете в учреждениях уголовно-исполнительной системы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формирование и развитие механизмов восстановительного правосудия, социально-психологическое сопровождение несовершеннолетних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дившихся из мест лишения (ограничения) свободы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учреждений уголовно-исполнительной системы по восстановлению отношений детей, находящихся в местах лишения свободы, с их семьями и ближайшим социальным окружением и </a:t>
            </a: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оказание помощи таким детям в адаптации и ресоциализации по окончании отбывания наказания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обеспечение права на образование осужденного несовершеннолетне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 путем реализации программ профессионального обучения, образовательных программ среднего профессионального образования, для приобретения ими современных профессий, востребованных на рынке труда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6F1A-B0A3-480A-9CA4-D590254A14E7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1349280" y="13500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1325520" y="785880"/>
            <a:ext cx="85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344600" y="1577880"/>
            <a:ext cx="853776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 и предупреждение повторных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воевременное оказание психолого-педагогической, медицинской и социальной помощи обучающим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ытывающим трудности в освоении основных общеобразовательных программ, развитии и социальной адаптации, в том числе разработку эффективных моделей деятельности педагогов-психологов, учителей-логопедов, учителей-дефектологов, социальных педагогов, специалистов психолого-медико-педагогических комиссий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системы межведомственного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образовательными организациями, медицинскими организациями и иными субъектами профилактики правонарушений несовершеннолетних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ормирование информационного простран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его развитие нравственных ценностей, законопослушного поведения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1F73-B43A-420F-A554-0FFDEA44846F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349280" y="13500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1325520" y="785880"/>
            <a:ext cx="85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1344600" y="1486080"/>
            <a:ext cx="853776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 и предупреждение повторных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работке программ и планов профилактики безнадзорности и правонарушений несовершеннолетних необходимо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итывать социально-экономические, нравственно-этические и этнические особенности условий, обычаев и традиций в субъектах Российской Федерации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ганизация региональных ресурсных центров, обеспечивающих обобщение и тиражирование эффективного опыт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х технологий профилактической работы, повышение профессионального уровня специалистов органов и учреждений системы профилактики безнадзорности и правонарушений несовершеннолетних, в том числе на базе специальных учреждений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 деятельности центров психолого-педагогической, медицинской и социаль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сихолого-медико-педагогических комиссий, специальных учреждений, в том числе в части развития и внедрения современных реабилитационных технологий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D160-6301-4B2A-AFC7-5C3776342D3F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1461960" y="860400"/>
            <a:ext cx="8332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Информационно-методическое обеспечен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нализ и распространение лучшей практики, технологий и методов профилактик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х в сфере правонарушений несовершеннолетних, включая анализ и обобщение опыта формирования единого межведомственного учета несовершеннолетних и (или) семей, находящихся в социально опасном положении, посредством создания регионального банка данны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свещение родителей (законных представителей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профилактики безнадзорности и правонарушений несовершеннолетних, устранения факторов, им способствующ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работка и использование методов воздействия на несовершеннолетних, не связанных с применением наказан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роведения научных исследований в области психологии девиантного поведения несовершеннолетни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D9E3-9FAB-4DF8-8647-E81425DDF5CD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1373040" y="976320"/>
            <a:ext cx="8404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Развитие кадрового потенциала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ганизация мероприятий по повышению профессионального уровн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ю новых компетенций руководителями и специалистами органов и учреждений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ространение эффективного опы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образования и дополнительного профессионального образования специалистов, работающих в органах и учреждениях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е деятельности педагогических сообщест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одические объединения, сетевые сообщества, ассоциации, лаборатории и др.) по актуальным вопросам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2574-366C-42DF-9D7B-9ECAF3C51FFA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1457280" y="268200"/>
            <a:ext cx="8332920" cy="61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 Ожидаемые результаты реализации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ПОКАЗАТЕЛИ (ИНДИКАТОРЫ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нижение доли несовершеннолетних, совершивших преступле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й численности несовершеннолетних в возрасте от 14 до 17 лет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нижение доли осужденных несовершеннолетних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х повторные преступления, в общей численности несовершеннолетних, состоящих на учете в уголовно-исполнительных инспекциях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ышение до 100  процентов доли несовершеннолетних, приступивших к обучени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ых организациях, в общей численности несовершеннолетних, подлежащих обучению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ОГ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формированная система дополнительных мер, направленных на выявление и устранение причин и условий, способствующих правонарушениям и антиобщественным действиям несовершеннолетних, развит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F23F-BB86-49FB-9E75-969AA4742B09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782720" y="1371600"/>
            <a:ext cx="769788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 Общие положения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Состояние системы профилактики безнадзорности и правонарушений несовершеннолетних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Цель и задачи Концепции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Основные принципы развития системы профилактики безнадзорности и правонарушений несовершеннолетних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 Ожидаемые результаты реализации Концепции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 Реализация Концепции и ее финансовое обеспечение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85240" y="7318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F476-8789-431D-8E07-81B30404A00C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1400040" y="268200"/>
            <a:ext cx="8448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 Реализация Концепции и ее финансовое обеспечени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3cb49"/>
                </a:solidFill>
                <a:latin typeface="Times New Roman"/>
                <a:ea typeface="Times New Roman"/>
              </a:rPr>
              <a:t>ОТВЕТСТВЕН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внутренних дел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исполнения наказа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труда и социальной защиты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агентство по делам молодеж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 поддержки детей, находящихся в трудной жизненной ситу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ов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работка нормативных правовых акто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ние программы постоянного мониторинга реализации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дение работы по совершенствованию региональных и муниципальных  программ по профилактике безнадзорности и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DE65-9359-4EDB-AB60-7CE4D6748978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1363680" y="268200"/>
            <a:ext cx="853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лан мероприятий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а 2017 - 2020 годы по реализации Концепции развития системы профилактики безнадзорности и правонарушений несовершеннолетних на период до 2020 го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593720" y="1706400"/>
          <a:ext cx="7817040" cy="3687840"/>
        </p:xfrm>
        <a:graphic>
          <a:graphicData uri="http://schemas.openxmlformats.org/drawingml/2006/table">
            <a:tbl>
              <a:tblPr/>
              <a:tblGrid>
                <a:gridCol w="2440080"/>
                <a:gridCol w="1511280"/>
                <a:gridCol w="1657440"/>
                <a:gridCol w="139680"/>
                <a:gridCol w="2068560"/>
              </a:tblGrid>
              <a:tr h="19548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лизаци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Совершенствование нормативно-правового регулирован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фере профилактики безнадзорности и 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548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Развитие эффективной модели системы профилактики безнадзорности и 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Информационно-методическое обеспечение системы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безнадзорности и 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00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. Развитие кадрового потенциала системы профилактики безнадзорности 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512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. Управление реализацией Концепци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2" descr="http://shkolnie.ru/pars_docs/refs/101/100100/100100_html_6ca6ed4f.png"/>
          <p:cNvPicPr/>
          <p:nvPr/>
        </p:nvPicPr>
        <p:blipFill>
          <a:blip r:embed="rId2"/>
          <a:stretch/>
        </p:blipFill>
        <p:spPr>
          <a:xfrm>
            <a:off x="2855880" y="5148360"/>
            <a:ext cx="55468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21B5-02DA-452B-806C-474B2B1E25A1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398600" y="536400"/>
            <a:ext cx="8332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 Общие положе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азработана на основан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ОН о правах ребен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сновных гарантиях прав ребенка в Российской Федерации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бразовании в Российской Федерации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сновах системы профилактики правонарушений в Российской Федерации»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национальной безопасности Российской Федерации, утвержденная Указом Президента Российской Федерации от 31 декабря 2015 г. N 683 «О Стратегии национальной безопасности Российской Федерации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0671-EA65-4BEB-ADCC-AA74296F569D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422360" y="382680"/>
            <a:ext cx="84614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Состоян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детей и подростков в возрасте до 18 л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014 тыс. человек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и преступлений в 2016 году ста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48,6 тыс. подростков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ми и при их соучастии совершен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53,7 тыс. преступл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2016 года на учете в подразделениях по делам несовершеннолетних органов внутренних дел состоя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142,8 тыс. несовершеннолетни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!!На протяжении ряда лет сохраняется высокая криминальная активность подростков младших возрастных групп!!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го внимания требуют такие антиобщественные действия, как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угивание, травля ребенка со стороны одноклассников, распространение лживой, порочащей ребенка информации в социальных сетях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нередко воспринимаются как норма не только детьми, совершающими противоправные поступки, но и жертвами такого поведения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7ABC-F7ED-4843-8BCC-DE5B328B04E5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219320" y="65160"/>
            <a:ext cx="853128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Цель и задачи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ЕЛ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успешной социализации (ресоциализации) несовершеннолетних, формирования у них готовности к саморазвитию, самоопределению и ответственному отношению к своей жизни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личества правонарушений, совершенных несовершеннолетними, в том числе повторных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ава каждого ребенка жить и воспитываться в семье, укрепление института семьи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несовершеннолетних, создание условий для формирования достойной жизненной перспективы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еханизмов управления органами и учреждениями системы профилактики безнадзорности и правонарушений несовершеннолетних, включая повышение эффективности межведомственного взаимодействия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имеющихся и внедрение новых технологий и методов профилактической работы с несовершеннолетними, в том числе расширение практики применения технологий восстановительного подхода с учетом эффективной практики субъектов Российской Федерации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рофессиональной компетентности специалистов органов и учреждений системы профилактики безнадзорности и правонарушений несовершеннолетних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1346-AFE7-475C-B1F2-F5F648015C05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Основные принципы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647720" y="998640"/>
            <a:ext cx="7967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ъединение действий различных ведомств и организаций на основе создания единого понятийного, информационного пространства, реализация задач профилактики безнадзорности и правонарушений несовершеннолетних с учетом ресурсов всех субъектов системы и их взаимосвяз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И ПРАКТИЧЕСКАЯ НАПРАВЛЕННОСТЬ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на решение актуальных вопросов и применение эффективных механизмов их  решения, учет региональных особенностей в разработке и реализации программ профилактики безнадзорности и правонарушений несовершеннолетних;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АЯ НАПРАВЛЕНН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доступности профессиональной, качественной, адресной, своевременной и эффективной помощи для несовершеннолетних, учет социальных, психологических, возрастных и физиологических характеристик ребенка в выборе методов диагностики и коррекции негативных отклонений в поведении несовершеннолетних, в выборе средств реабилитационной работы, стратегии жизненного пути несовершеннолетнег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ТИМАЛЬНОСТЬ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распределение сфер ответственности, соответствие затраченных усилий, средств и времени качеству достигнутого результата, мониторинг результатов деятельности по профилактике безнадзорности и правонарушений несовершеннолетних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F512-8A18-448D-8213-08C3FC90E8B7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577880" y="1380960"/>
            <a:ext cx="783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вершенствование нормативно-правового регулирования в сфере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формационно-методическое обеспечен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тие кадрового потенциала системы профилактики безнадзорности и правонарушений несовершеннолетних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6EB5-CBA7-4F5C-8347-38C63B315E72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349280" y="16812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353960" y="806400"/>
            <a:ext cx="8521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овершенствование нормативно-правового регулирования в сфере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,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туализация региональных (муниципальных) программ и планов мероприят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рганизации профилактики безнадзорности и правонарушений несовершеннолетних с учетом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федеральных государственных образовательных стандартов начального общего, основного общего, среднего общего образования в части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ретизации требований к планируемым результатам воспитания обучающихс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мониторинга системы образования и статистического уче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е эффективной модели системы профилакт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0B1A-13D7-483D-A694-AB0990570B1D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577880" y="1208160"/>
            <a:ext cx="783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928880" y="2305080"/>
            <a:ext cx="74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рофилактического воздействия предусматривают 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овторных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23:09:16Z</dcterms:created>
  <dc:creator>TP</dc:creator>
  <dc:description/>
  <dc:language>en-US</dc:language>
  <cp:lastModifiedBy>Пользователь</cp:lastModifiedBy>
  <dcterms:modified xsi:type="dcterms:W3CDTF">2017-04-27T12:32:17Z</dcterms:modified>
  <cp:revision>268</cp:revision>
  <dc:subject/>
  <dc:title>Земля, на которой живу</dc:title>
</cp:coreProperties>
</file>